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A4D-F739-45C0-8227-6CEEBF78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7FD-CEA9-43F2-9172-51D0F725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0B58-D47C-4BAF-8798-F939DB25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052-AEB2-4DCF-8EE8-C622BC7A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C1A-B1A2-4CD7-9CCF-779E226D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C0C-3E38-4E90-A020-C3FDE6A8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FB5F-FEB6-43FE-B89A-40C6FB51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218-19D1-42E0-B3EC-C6197DE5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260A-033C-43E0-9C01-C2EDFD95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FC3-8ED5-4F8A-9790-B606BE24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83D-F9D9-4A78-BF9E-4077C8B6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F5D-2792-48A3-A221-1FC15B32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3556-502F-4D42-8928-FC9C3303C33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371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os tiempos del pasado: Pretérito perfecto – Pretérito indefinido – Imperf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05920" cy="406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de las facetas de la gramática del español que más ríos de tinta ha provocado y sigue provocando es, entre otras, 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retérito imperfecto: su uso y especialmente su contras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con el pretérito indefinid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n resumen, el pretérito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mperf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no es un “pasado no acabado”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ualquier acción pasada, por el mero hecho de ser pasada, está conclu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ran parte de los usos y efectos de sentido concretos con los que se relaciona el imperfecto en español surgen de la falta de especificación en relación con la terminación o no de los hechos a los que se refi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559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uchos estudiantes extranjeros hacen confusión entre  la realidad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lingüíst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presentar un hecho como no terminado en un momento del pasado, gracias a una forma verbal concreta: el imperfecto) y la realidad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xtralingüíst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pensar que la acción designada por el verbo no ha terminado todavía en el present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tro punto de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confli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o constituye el uso del pretérito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mperf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on verbos de aspecto léxico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erfectiv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; son verbos como </a:t>
            </a:r>
            <a:r>
              <a:rPr b="0" i="1" lang="it-IT" sz="3200" spc="-1" strike="noStrike">
                <a:solidFill>
                  <a:srgbClr val="ff0066"/>
                </a:solidFill>
                <a:latin typeface="Arial"/>
              </a:rPr>
              <a:t>disparar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, </a:t>
            </a:r>
            <a:r>
              <a:rPr b="0" i="1" lang="it-IT" sz="3200" spc="-1" strike="noStrike">
                <a:solidFill>
                  <a:srgbClr val="ff0066"/>
                </a:solidFill>
                <a:latin typeface="Arial"/>
              </a:rPr>
              <a:t>explotar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, </a:t>
            </a:r>
            <a:r>
              <a:rPr b="0" i="1" lang="it-IT" sz="3200" spc="-1" strike="noStrike">
                <a:solidFill>
                  <a:srgbClr val="ff0066"/>
                </a:solidFill>
                <a:latin typeface="Arial"/>
              </a:rPr>
              <a:t>apagar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o </a:t>
            </a:r>
            <a:r>
              <a:rPr b="0" i="1" lang="it-IT" sz="3200" spc="-1" strike="noStrike">
                <a:solidFill>
                  <a:srgbClr val="ff0066"/>
                </a:solidFill>
                <a:latin typeface="Arial"/>
              </a:rPr>
              <a:t>marcar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3200" spc="-1" strike="noStrike">
                <a:solidFill>
                  <a:srgbClr val="ff0066"/>
                </a:solidFill>
                <a:latin typeface="Arial"/>
              </a:rPr>
              <a:t>un gol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etc. Sin embargo, nada impide adoptar para estas acciones la perspectiva del imperfecto, puesto que con esta forma verbal únicamente no se especifica el desarrollo completo del proc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05920" cy="58212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segunda clave para comprender el significado d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mperf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s ser conscientes de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su valor equivalente al del pres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uiz Campillo define  así el imperfecto frente al presen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 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resen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os referimos a hechos que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sucede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n 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momento en que hablamo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 el pretérito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mperf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os referimos a hechos que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sucede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que sucedían) en 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momento de la historia en que nos hallamos(hallabamos) cuando la estamos narr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n definitiva, con 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resen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signamos hechos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no terminado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n el momento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actual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y con 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mperf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representamos hechos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no terminado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n un momento d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asad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uando usamos 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resen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stamos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dentro de la escena actual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y describimos lo que pasa “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aquí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 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mperf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al recordar aquellos mismos hechos, trasladamos esa misma perspectiva a un momento d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asad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nos situamos dentro de una escena pasada y describimos lo que pasaba “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allí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”. Podemos observar esta correlación en los siguientes ejemplos :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AHOR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¡Cuánto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llueve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i novia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una chica muy inteli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Todas las noches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estudi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una hora.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ENTO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Llovía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ucho aquel d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i primera novia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era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uy inteligente.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Antes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estudiaba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una hora todas las noches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n el caso d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retérito imperf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explicar este tiempo verbal por medio de un listado de usos o contextos de aparición no es explicar su significado, su sentido, sino enumerar para qué se usa. Por lo tanto debemos partir de un paso previ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xplicar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qué e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l imperfecto y de ahí, una vez definido, comprender para qué se u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RESTRICCIÓN DE SIMULTANEIDAD. EL “IMPERFECTO PERIODÍSTIC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stañeda señala que el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pretéri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imperfec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dquiere su valor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imperfectiv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rototípico de manera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equivalen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 como el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resen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dquiere su valor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imperfectiv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rototípico a partir de l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restricción de simultaneida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respecto del momento de la enunciació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305920" cy="559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 restricció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xcluy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l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resen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como tiempo para expresar acciones perfectivas porqu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no podemos contar las cosas a la vez que suceden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Por eso para hablar de la realidad actual no utilizam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únicamente el presente sino también el pretérito perfec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s: Me voy de esta fiesta porqu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estoy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masiado borrach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 voy de esta fiesta porque m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he enfadado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 mis amigos [No *porque me enfado]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contar un hecho conclui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bemos esperar a que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conclu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por lo que el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acto de habla es siempre posterior al hecho concluid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 de noche y muy tarde. Estás caminando por la calle hacia a tu casa y suena tu teléfono móvil. Es tu madre, que te pregunt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 ¿Pero dónde estás? ¡Estoy muy preocupada! ¿Por qué no estás todavía en cas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¿Cómo puedes respond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81880" cy="5211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o siento, mami, es que __________ (perder) el último autobús y a estas horas el metro __________ (estar) cer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ranquila, voy para allá caminando, que no __________ (tener) dinero para un tax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cabo de salir del cine. Es que la película __________ (acabar) muy tar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¿Qué hora es...? ¡Anda, mi reloj no __________ (funcionar)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Situació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tás en casa y suena el teléfono fijo. Es tu mejor amiga, que te di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 ¡Oye, te he escrito un mensaje de móvil hace un rato! ¿Por qué no me contest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153280" cy="5668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¿Cómo puedes respond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ues porque no __________ (tener) sal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ye, ahora __________ (estar) en clase de piano, con la profesora particular, y no __________ (llevar) el móvil enc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¡Qué raro, pero si no lo __________ (recibir)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ira, es que mi móvil __________ (romperse) y en este momento __________ (estar) apaga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Situación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tás de compras en una tienda de ropa con tu hermana y tu amiga Lucía. Acabas de salir de los probadores y llevas una camiseta roja en la mano, pero la dejas encima del montón de ropa que está ordenando una dependienta. Tu hermana te pregunt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 Anda, ¿no te compras la camiset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8975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¿Cómo puedes respond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, es que no __________ (tener) suficiente dine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ueno, __________ (cambiar) de opinión, __________ (ser) demasiado ca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, no me __________ (quedar) bien, no __________ (ser) mi talla y me va un poco gran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 sé, es que Lucía se __________ (comprar) la misma y no quiero ir igual que el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Situació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n las once y media de la noche aproximadamente y recibes una llamada de teléfono. Escuchas la voz de tu mejor amigo, que te di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 Bueno, ¿qué?, ¿no me vas a felicitar? ¡Es mi cumplea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liendo de esta distinción, es importante subrayar l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importancia de la subjetivida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 la hora de hablar del pasado, porque según Matte Bon: :'No existen acontecimientos que, por si mismos, exijan el pretérito indefinido más que el imperfecto o el de un tiempo compuesto.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Un mismo acontecimiento puede ser relatado de distintas maneras mediante el empleo de uno u otro de estos tiempos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153280" cy="58212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3399"/>
                </a:solidFill>
                <a:latin typeface="Arial"/>
              </a:rPr>
              <a:t>¿Cómo puedes responder?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¡Ahí va, qué fallo! Lo confieso, __________ (olvidarse) complet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nda, ¿hoy es 19? ¡ __________ (equivocarse) de dí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alla, calla, que __________ (perder) mi agenda y mi vida es un ca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í, si te he llamado varias veces, ¡pero es que todavía no __________ (tener) tu nuevo número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lamente lo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verb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imperfectiv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( acciones de las cuales no nos importa el término)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e utilizan en la forma d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resen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con el sentido estricto d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st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cosas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vig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n el mismo momento en el que hablamos, es decir,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simultáneo al tiemp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del acto de hab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Tengo sueño; Estoy cans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 obstante, también es perfectamente </a:t>
            </a:r>
            <a:r>
              <a:rPr b="0" lang="it-IT" sz="3200" spc="-1" strike="noStrike">
                <a:solidFill>
                  <a:srgbClr val="ff3399"/>
                </a:solidFill>
                <a:latin typeface="Arial"/>
              </a:rPr>
              <a:t>posib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3399"/>
                </a:solidFill>
                <a:latin typeface="Arial"/>
              </a:rPr>
              <a:t>narrar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os acontecimientos al </a:t>
            </a:r>
            <a:r>
              <a:rPr b="0" lang="it-IT" sz="3200" spc="-1" strike="noStrike">
                <a:solidFill>
                  <a:srgbClr val="ff3399"/>
                </a:solidFill>
                <a:latin typeface="Arial"/>
              </a:rPr>
              <a:t>mismo tiempo que ocurre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 lo habitual en las </a:t>
            </a:r>
            <a:r>
              <a:rPr b="0" lang="it-IT" sz="3200" spc="-1" strike="noStrike">
                <a:solidFill>
                  <a:srgbClr val="ff3399"/>
                </a:solidFill>
                <a:latin typeface="Arial"/>
              </a:rPr>
              <a:t>retransmisione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it-IT" sz="3200" spc="-1" strike="noStrike">
                <a:solidFill>
                  <a:srgbClr val="ff3399"/>
                </a:solidFill>
                <a:latin typeface="Arial"/>
              </a:rPr>
              <a:t>dir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, por ejemplo, partidos de fútbol o eventos significativ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a.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Ca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al suelo Morientes... y el árbitro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pita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penal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a.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En estos momentos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llega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el papamóvil a la avenida y el público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salu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iderando los ejemplos anteriores, no existe problema alguno para aceptar sin reparo alguno el uso del llamado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imperfecto periodístico o narrativ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puesto que obedece a las mismas razones estilísticas que los ejemplos ofrecidos en la forma verbal de presente, sólo que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trasladando la perspectiva a un momento del pas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b.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En el último minuto de partido </a:t>
            </a:r>
            <a:r>
              <a:rPr b="1" i="1" lang="es-ES" sz="3200" spc="-1" strike="noStrike">
                <a:solidFill>
                  <a:srgbClr val="ff3399"/>
                </a:solidFill>
                <a:latin typeface="Arial"/>
              </a:rPr>
              <a:t>caía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l suelo Morientes y el árbitro </a:t>
            </a:r>
            <a:r>
              <a:rPr b="1" i="1" lang="es-ES" sz="3200" spc="-1" strike="noStrike">
                <a:solidFill>
                  <a:srgbClr val="ff3399"/>
                </a:solidFill>
                <a:latin typeface="Arial"/>
              </a:rPr>
              <a:t>pitaba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penal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b.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El papamóvil </a:t>
            </a:r>
            <a:r>
              <a:rPr b="1" i="1" lang="es-ES" sz="3200" spc="-1" strike="noStrike">
                <a:solidFill>
                  <a:srgbClr val="ff3399"/>
                </a:solidFill>
                <a:latin typeface="Arial"/>
              </a:rPr>
              <a:t>llegaba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 la avenida a las cinco y media, momento en que el público </a:t>
            </a:r>
            <a:r>
              <a:rPr b="1" i="1" lang="es-ES" sz="3200" spc="-1" strike="noStrike">
                <a:solidFill>
                  <a:srgbClr val="ff3399"/>
                </a:solidFill>
                <a:latin typeface="Arial"/>
              </a:rPr>
              <a:t>saludaba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enfervorecido al pontíf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alicemos ahora la propuesta de las investigadoras Montserrat Pons Tovar y Francisca Miranda Paredes(Universidad de Málaga) para distinguir el uso de pretérito indefinido y pretérito imperf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 .PRETÉRITO INDEFIN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.US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expresar un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acción pasada que no tiene relación con el pres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s: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El verano pasado fui a Estados U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oche vimos a Pab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s acciones pasadas pueden referirse a nuestra vida (autobiografía) o a la vida de otras personas(biografía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Me licencié en 19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Unamuno fue profesor en Salaman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. Marcadores tempora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yer, anteayer, anoche, anteanoc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el mes pasado, el año pasado, aquel día, en 1997, durante x tiemp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una, dos, tres ...ve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muchos años, toda la vid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305920" cy="5973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PRETÉRITO IMPERFECT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Usos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Para describir en el pasado  personas, cosas o situacion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Marta </a:t>
            </a: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llevab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el pelo sue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El castillo </a:t>
            </a: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er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enorme  y </a:t>
            </a: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estab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en un jardín estup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Hací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tanto calor que la gente </a:t>
            </a: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preferí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salir de casa sólo por la no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05920" cy="5745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n el caso del contraste indefinido-imperfecto, Ortega y Castañeda sintetizan en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tre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grandes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categoría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s diferentes concepciones de esta oposición existentes en la gramátic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Para hablar de acciones que se realizan normalmente en el pas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Todos los días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a la tres de la tarde mi abuelo </a:t>
            </a: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dormí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la si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381880" cy="5745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- Para hablar con cortesí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Queria cerrar la ventana?Hace mucho fr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uso del imperfecto en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presiones c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Querí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una chocolatina o ¿Qué vas a hacer hoy?/</a:t>
            </a: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Pensab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ir al cine,pero no 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eriva de la interpretación siguiente: con el imperfecto se habla de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deseos o intencion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actuales de forma indirecta, sin estar seguros de llevarlos a cab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;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señala que en el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pasado inmediato albergaba tales intencion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y, puesto que no se expresa ni la consecución ni el cese de las mismas (al usar imperfecto y no el indefinido), se da a entender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aún siguen vig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in tener que afirmarlo de forma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Marcadores tempora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siempre, casi siempre, normalmente, frecuentemente, cuando era pequeño, cuando era más joven, una, dos... veces al día/mes/año, mien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579240"/>
            <a:ext cx="8229600" cy="559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CONTRASTE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imperfec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xpresa accione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larg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qu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duran en el tiemp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indefini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xpresa acciones que suceden en un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momento  del pasado o acciones cort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Arial"/>
              </a:rPr>
              <a:t>Conoció</a:t>
            </a: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 su marido cuando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viví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en Mad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458200" cy="37335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explicar 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caus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una acción utilizamos el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imperfec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-¿Por qué no viniste ayer?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o vine ayer porque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estab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enferma -Como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estab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enferma no vine 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ndo contamos historias reales o inventada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mpezamos con un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descripción(imperfec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 u="sng">
                <a:solidFill>
                  <a:srgbClr val="ff3399"/>
                </a:solidFill>
                <a:uFillTx/>
                <a:latin typeface="Arial"/>
              </a:rPr>
              <a:t>Habí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una vez una niña que se </a:t>
            </a:r>
            <a:r>
              <a:rPr b="0" i="1" lang="es-ES" sz="3200" spc="-1" strike="noStrike" u="sng">
                <a:solidFill>
                  <a:srgbClr val="ff3399"/>
                </a:solidFill>
                <a:uFillTx/>
                <a:latin typeface="Arial"/>
              </a:rPr>
              <a:t>llamab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Caperuc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pués contamos la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acciones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habitua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los personaj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Ib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todos los días a casa de su abuelita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después pasar a contar la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ac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n sí (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pretérito indefini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Un día Caperucíta </a:t>
            </a:r>
            <a:r>
              <a:rPr b="0" i="1" lang="es-ES" sz="3200" spc="-1" strike="noStrike" u="sng">
                <a:solidFill>
                  <a:srgbClr val="ff3399"/>
                </a:solidFill>
                <a:uFillTx/>
                <a:latin typeface="Arial"/>
              </a:rPr>
              <a:t>tuvo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que ir a casa de su abuela sola, así que </a:t>
            </a:r>
            <a:r>
              <a:rPr b="0" i="1" lang="es-ES" sz="3200" spc="-1" strike="noStrike" u="sng">
                <a:solidFill>
                  <a:srgbClr val="ff3399"/>
                </a:solidFill>
                <a:uFillTx/>
                <a:latin typeface="Arial"/>
              </a:rPr>
              <a:t>cogió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su cesta, </a:t>
            </a:r>
            <a:r>
              <a:rPr b="0" i="1" lang="es-ES" sz="3200" spc="-1" strike="noStrike" u="sng">
                <a:solidFill>
                  <a:srgbClr val="ff3399"/>
                </a:solidFill>
                <a:uFillTx/>
                <a:latin typeface="Arial"/>
              </a:rPr>
              <a:t>salió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de su casa y </a:t>
            </a:r>
            <a:r>
              <a:rPr b="0" i="1" lang="es-ES" sz="3200" spc="-1" strike="noStrike" u="sng">
                <a:solidFill>
                  <a:srgbClr val="ff3399"/>
                </a:solidFill>
                <a:uFillTx/>
                <a:latin typeface="Arial"/>
              </a:rPr>
              <a:t>empezó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a and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153280" cy="5745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a vez entendidos perfectamente estos usos, se puede pasar a un plano más complejo con la explicación del uso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subjetiv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los tiemp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la or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yer Juan </a:t>
            </a: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cantó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en la fi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tilizamos el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indefini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aginemos que Juan es muy tímido y por eso la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acción de cant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s muy importante, es una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acción única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o también es posib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yer Juan </a:t>
            </a:r>
            <a:r>
              <a:rPr b="1" i="1" lang="es-ES" sz="3200" spc="-1" strike="noStrike">
                <a:solidFill>
                  <a:srgbClr val="ff0066"/>
                </a:solidFill>
                <a:latin typeface="Arial"/>
              </a:rPr>
              <a:t>cantab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en la fi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Por qué? Para nosotros lo importante no es tanto la acción como su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dura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n sí: imaginemos que Juan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cantó desde las doce de la noche hasta las cinco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 la mañana. El uso del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imperfec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nos da la idea de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dura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rimer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de carácter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aspectual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e señala como rasgo distintivo el valor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terminativ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erfectiv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ndefinid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frente a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terminativ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mperfectivo del imperf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segun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de carácter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temporal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e considera 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mperf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omo un tiempo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relativ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por lo que 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roces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signado por esta forma verbal se entiende como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simultáne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a otro momento del pasado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35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lo que se refiere al 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etérito Perfec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atte Bon afirm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tiempo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ues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haber + participio pas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 que sirve cuando  al enunciador  no le interes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ntar el hech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l que se sefiere en sí, sino e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3200" spc="-1" strike="noStrike" u="sng">
                <a:solidFill>
                  <a:srgbClr val="ff0066"/>
                </a:solidFill>
                <a:uFillTx/>
                <a:latin typeface="Arial"/>
              </a:rPr>
              <a:t>medida en que está en relación con el tiempo presente de indi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las gramáticas tradicionales ningún autor decía que, en realidad, el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pretérito perfecto e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más un tiempo del  presente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que del pas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ya que es una manera de hablar de cosa pasadas, presentándolas como algo que, en el contexto considerado , no nos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interes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n sí, sino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su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relación con el presen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8001000" cy="647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veces, al emplear el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retérito perfec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el enunciador presenta lo dicho como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lg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provisional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 señala que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no puede considerarlo del todo como perteneciente al pas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que no sabe si van a suceder más cos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Este mes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todavía no hemos ido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al 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 frecuencia los empleos de este tiempo va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sin ningún tipo de marcador tempor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Has leído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el Quijote? Sí, claro , lo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he leído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tres v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que notar  que aún cuando el pretérito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perfec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va acompañado por un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marcador tempor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dificilmen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uede tratarse de marcadores que remitan a un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pasado acab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año pasado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me </a:t>
            </a: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compré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un coche nuevo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N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el año pasado me he comprado un coche nue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05920" cy="58212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oposición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pretérito perfecto/ pretérito indefini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s algo exclusivamente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linguístic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en que la lengua remite a si misma y no en su consideración refer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 hecho si se intenta en el mundo real de encontrar una oposición que en realidad no existe, se caerá en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errore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como el de creer que el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pretérito perfecto se refiere a a acciones más reciente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lo tanto no hay que buscar esta oposición en los acontecimientos y acciones extralinguísticos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o en lo que hace el hablante al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evocarlos linguísticamen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 con el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etérito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indefini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enta los acontecimientos como el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centro de su interé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 con el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Imperfect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los utiliza para crear un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marco contextual, evocar una situació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 con el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pretérit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perfect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habla de cosas pasadas que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e interesan por su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relació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co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el presente de la enuncia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tuación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¿Por qué te fuiste de la fiesta sin decir nad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__________ (estar) demasiado borrach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__________ (enfadarse) con mis amig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 que __________ (recibir) una llamada ur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 que no me __________ (gustar) la mús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5516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tuación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¿Por qué volviste a casa tan tarde anoch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 que __________ (perder) el último autobús y a esas horas de la noche el metro __________ (estar) cerra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no __________ (tener) dinero para un tax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 que la película __________ (acabar) muy tar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mi reloj no __________ (funciona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¿Por qué no contestaste ayer mi mensaj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no __________ (tener) sal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en ese momento __________ (estar) en clase de piano y no __________ (llevar) el móvil enc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 que no lo __________ (recibi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mi móvil __________ (romperse) y en ese momento __________ (estar) apaga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tercera categoría, de naturaleza discursiva, defendida, entre otros, por Matte Bon establece que  el imperfecto presenta una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situación estátic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que sirve de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fondo contextual a los sucesos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n indefinido, que son los que hacen progresar la narr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1920" y="685800"/>
            <a:ext cx="8534520" cy="5440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¿Por qué no te compraste la camiset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no __________ (tener) suficiente dine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 que __________ (cambiar) de opinión, __________ (ser) demasiado ca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no me __________ (quedar) bien, es que no __________ (ser) mi talla y me iba un poco gran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Lucía se __________ (comprar) la mis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8212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¿Por qué no me llamaste por teléfono el día de mi cumpleañ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__________ (olvidarse) complet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__________ (equivocarse) de fech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 que __________ (perder) mi agen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no __________ (tener) tu nuevo núm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229600" cy="52578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ecapitulan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uando hablamos de una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situación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pasad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el uso del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imperfect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es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equival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al uso del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pres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cuando hablamos de una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situación pres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Pres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describe hechos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n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terminados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en un momento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actual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imperfect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describe hechos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no terminados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en un momento del pas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Es decir, con el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imperfect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reflejamos un hecho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del pasad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que era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actua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aquel moment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del que hablamos ah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 el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Pretérito indefinid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reflejamos un hecho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pasad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ya terminad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en un momento del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pasad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amos algo que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ya había sucedid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completam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en aquel momen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l que habl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153280" cy="5745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sto mismo sucede cuando utilizamos el </a:t>
            </a:r>
            <a:r>
              <a:rPr b="1" lang="it-IT" sz="2800" spc="-1" strike="noStrike">
                <a:solidFill>
                  <a:srgbClr val="ff3399"/>
                </a:solidFill>
                <a:latin typeface="Arial"/>
              </a:rPr>
              <a:t>Pretérit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3399"/>
                </a:solidFill>
                <a:latin typeface="Arial"/>
              </a:rPr>
              <a:t>Perfect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referido a un momento </a:t>
            </a:r>
            <a:r>
              <a:rPr b="1" lang="it-IT" sz="2800" spc="-1" strike="noStrike">
                <a:solidFill>
                  <a:srgbClr val="ff3399"/>
                </a:solidFill>
                <a:latin typeface="Arial"/>
              </a:rPr>
              <a:t>actual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: hablamos de un hecho que ya ha terminado en ese mo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it-IT" sz="2800" spc="-1" strike="noStrike">
                <a:solidFill>
                  <a:srgbClr val="ff3399"/>
                </a:solidFill>
                <a:latin typeface="Arial"/>
              </a:rPr>
              <a:t>Pretérit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3399"/>
                </a:solidFill>
                <a:latin typeface="Arial"/>
              </a:rPr>
              <a:t>Perfect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representa hechos no terminados en un momento act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uando hablamos de una situación pasada, el uso del </a:t>
            </a:r>
            <a:r>
              <a:rPr b="1" lang="it-IT" sz="2800" spc="-1" strike="noStrike">
                <a:solidFill>
                  <a:srgbClr val="ff3399"/>
                </a:solidFill>
                <a:latin typeface="Arial"/>
              </a:rPr>
              <a:t>Pretérit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3399"/>
                </a:solidFill>
                <a:latin typeface="Arial"/>
              </a:rPr>
              <a:t>Perfect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es equivalente al uso del </a:t>
            </a:r>
            <a:r>
              <a:rPr b="1" lang="it-IT" sz="2800" spc="-1" strike="noStrike">
                <a:solidFill>
                  <a:srgbClr val="ff3399"/>
                </a:solidFill>
                <a:latin typeface="Arial"/>
              </a:rPr>
              <a:t>Presente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cuando hablamos de una situación pres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05920" cy="58212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gún la primera  perspectiva, entendemos que el pretérito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ndefinid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presenta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estados, procesos o acciones como totalmente realizados y concluido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 Por ello cuando lo utilizamos en una narración, con él informamos de que un proceso empezó, se desarrolló y terminó en el punto de la historia en el que estam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l pretérito imperfecto, en cambio,describe un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tramo inter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haciendo abstracción de su fase inicial y de su término. Cuando narramos, con 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mperf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informamos de que un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roceso estaba en marcha en el punto de la historia en el que nos encontramos, sin decir nada sobre su f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uando usamos el indefinido vemos el hecho después de ocurrido; estamos mirándolo “</a:t>
            </a:r>
            <a:r>
              <a:rPr b="0" lang="it-IT" sz="3200" spc="-1" strike="noStrike">
                <a:solidFill>
                  <a:srgbClr val="ff3399"/>
                </a:solidFill>
                <a:latin typeface="Arial"/>
              </a:rPr>
              <a:t>desde fuera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l propio even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y que recalcar que si bien el </a:t>
            </a:r>
            <a:r>
              <a:rPr b="0" lang="it-IT" sz="3200" spc="-1" strike="noStrike">
                <a:solidFill>
                  <a:srgbClr val="ff3399"/>
                </a:solidFill>
                <a:latin typeface="Arial"/>
              </a:rPr>
              <a:t>imperf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3399"/>
                </a:solidFill>
                <a:latin typeface="Arial"/>
              </a:rPr>
              <a:t>no informa sobre el térmi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 la acción o estado, esto no significa que exprese explícitamente su continuidad o su no término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cha confusión ha dado lugar a explicaciones gramaticales erroneas como la siguiente: 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El pretérito imperfecto expresa acciones inacabadas. El pretérito indefinido expres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acciones acab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u</cp:lastModifiedBy>
  <dcterms:modified xsi:type="dcterms:W3CDTF">2011-12-07T14:20:55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